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69EB-4456-474F-98DF-B5E26884744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38F7-58BE-498D-A2F0-6237EBB9499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6DD-C733-430E-9C0B-DE34FA52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F49-AF9A-425C-9DFC-A6A0D706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539C-8597-4140-87CF-2BBCEF92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1BC-1E8C-417C-8F52-88DACA0F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4E8-E03C-4CE2-963D-00E11905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2769-8BC0-4F1A-B37C-F0466E32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7F2-72C2-436A-BD59-1F7E618C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0AD-86D4-4C19-BFEB-42E58CF7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D87-9411-4676-ACD4-096124C4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4AF-4538-4CE1-8307-4F7689A4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3E8-3886-4B7D-8F95-ADBE934D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4EE-4E14-4AAD-80D7-34616F02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A32E-08FB-46C2-ADC9-F77C1B4B0A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fika 3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21488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Współrzędne jednoro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ole tekstowe 4"/>
          <p:cNvSpPr/>
          <p:nvPr/>
        </p:nvSpPr>
        <p:spPr>
          <a:xfrm>
            <a:off x="446400" y="357120"/>
            <a:ext cx="47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ład z grafiki komputerowej II (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cek Matulewski (e-mail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jacek@fizyka.umk.pl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ttp://www.fizyka.umk.pl/~jacek/dydaktyka/3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4"/>
          <p:cNvSpPr/>
          <p:nvPr/>
        </p:nvSpPr>
        <p:spPr>
          <a:xfrm>
            <a:off x="6216480" y="62866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sja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5 listopada 2007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skalowania we współrzędnych jednorodnyc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642960" y="2000160"/>
                <a:ext cx="19861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pole tekstowe 5"/>
          <p:cNvSpPr/>
          <p:nvPr/>
        </p:nvSpPr>
        <p:spPr>
          <a:xfrm>
            <a:off x="3371760" y="32860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S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5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7"/>
          <p:cNvSpPr/>
          <p:nvPr/>
        </p:nvSpPr>
        <p:spPr>
          <a:xfrm>
            <a:off x="3371040" y="3286080"/>
            <a:ext cx="26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Scalef(0.5,1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6" descr="Skalowanie.jpg"/>
          <p:cNvPicPr/>
          <p:nvPr/>
        </p:nvPicPr>
        <p:blipFill>
          <a:blip r:embed="rId1"/>
          <a:stretch/>
        </p:blipFill>
        <p:spPr>
          <a:xfrm>
            <a:off x="357120" y="1500120"/>
            <a:ext cx="8452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skalowania jednorodnego we wszystkich kie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677880" y="2000160"/>
                <a:ext cx="19159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s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pole tekstowe 5"/>
          <p:cNvSpPr/>
          <p:nvPr/>
        </p:nvSpPr>
        <p:spPr>
          <a:xfrm>
            <a:off x="3371760" y="32860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S[16]={1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6" descr="Skalowanie.jpg"/>
          <p:cNvPicPr/>
          <p:nvPr/>
        </p:nvPicPr>
        <p:blipFill>
          <a:blip r:embed="rId1"/>
          <a:stretch/>
        </p:blipFill>
        <p:spPr>
          <a:xfrm>
            <a:off x="357120" y="1500120"/>
            <a:ext cx="8452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i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icie = „ujemne skalowanie”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712800" y="2000160"/>
                <a:ext cx="18446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pole tekstowe 5"/>
          <p:cNvSpPr/>
          <p:nvPr/>
        </p:nvSpPr>
        <p:spPr>
          <a:xfrm>
            <a:off x="3371760" y="32860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S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472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142884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obrotu we współrzędnych jednorodnych rozkładana jest na obroty wokół osi (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kąty Euler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upa 16"/>
          <p:cNvGrpSpPr/>
          <p:nvPr/>
        </p:nvGrpSpPr>
        <p:grpSpPr>
          <a:xfrm>
            <a:off x="785880" y="4429080"/>
            <a:ext cx="5705280" cy="2184840"/>
            <a:chOff x="785880" y="4429080"/>
            <a:chExt cx="5705280" cy="2184840"/>
          </a:xfrm>
        </p:grpSpPr>
        <mc:AlternateContent>
          <mc:Choice xmlns:a14="http://schemas.microsoft.com/office/drawing/2010/main" Requires="a14">
            <p:sp>
              <p:nvSpPr>
                <p:cNvPr id="111" name="Object 6"/>
                <p:cNvSpPr txBox="1"/>
                <p:nvPr/>
              </p:nvSpPr>
              <p:spPr>
                <a:xfrm>
                  <a:off x="785880" y="4429080"/>
                  <a:ext cx="2766960" cy="16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Object 4"/>
                <p:cNvSpPr txBox="1"/>
                <p:nvPr/>
              </p:nvSpPr>
              <p:spPr>
                <a:xfrm>
                  <a:off x="3701880" y="4429080"/>
                  <a:ext cx="2789280" cy="16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pole tekstowe 10"/>
            <p:cNvSpPr/>
            <p:nvPr/>
          </p:nvSpPr>
          <p:spPr>
            <a:xfrm>
              <a:off x="1099440" y="6215040"/>
              <a:ext cx="20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rót wokół osi 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ole tekstowe 11"/>
            <p:cNvSpPr/>
            <p:nvPr/>
          </p:nvSpPr>
          <p:spPr>
            <a:xfrm>
              <a:off x="4023360" y="6215040"/>
              <a:ext cx="20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rót wokół osi 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820800" y="2500200"/>
                <a:ext cx="26971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pole tekstowe 13"/>
          <p:cNvSpPr/>
          <p:nvPr/>
        </p:nvSpPr>
        <p:spPr>
          <a:xfrm>
            <a:off x="3659760" y="250020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o kąt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okół osi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714920" y="4143240"/>
          <a:ext cx="4071960" cy="2378160"/>
        </p:xfrm>
        <a:graphic>
          <a:graphicData uri="http://schemas.openxmlformats.org/drawingml/2006/table">
            <a:tbl>
              <a:tblPr/>
              <a:tblGrid>
                <a:gridCol w="1000080"/>
                <a:gridCol w="1571760"/>
                <a:gridCol w="15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ąt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s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8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70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70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8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9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142884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osi Z o kąt 45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714240" y="2000160"/>
                <a:ext cx="31226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pole tekstowe 15"/>
          <p:cNvSpPr/>
          <p:nvPr/>
        </p:nvSpPr>
        <p:spPr>
          <a:xfrm>
            <a:off x="3001680" y="4000680"/>
            <a:ext cx="511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Rz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ole tekstowe 18"/>
          <p:cNvSpPr/>
          <p:nvPr/>
        </p:nvSpPr>
        <p:spPr>
          <a:xfrm>
            <a:off x="3014640" y="400068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Rotatef(45,0,0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raz 17" descr="ObrotZ.jpg"/>
          <p:cNvPicPr/>
          <p:nvPr/>
        </p:nvPicPr>
        <p:blipFill>
          <a:blip r:embed="rId1"/>
          <a:stretch/>
        </p:blipFill>
        <p:spPr>
          <a:xfrm>
            <a:off x="285840" y="1463760"/>
            <a:ext cx="857700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osi X o kąt </a:t>
            </a:r>
            <a:r>
              <a:rPr b="0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5"/>
          <p:cNvSpPr/>
          <p:nvPr/>
        </p:nvSpPr>
        <p:spPr>
          <a:xfrm>
            <a:off x="3714840" y="2928960"/>
            <a:ext cx="5429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const a=2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const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r=a*M_PI/180.0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Rx[16]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1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s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sin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in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s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x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500040" y="2000160"/>
                <a:ext cx="276696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pole tekstowe 7"/>
          <p:cNvSpPr/>
          <p:nvPr/>
        </p:nvSpPr>
        <p:spPr>
          <a:xfrm>
            <a:off x="3728880" y="214308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#include &lt;math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ole tekstowe 8"/>
          <p:cNvSpPr/>
          <p:nvPr/>
        </p:nvSpPr>
        <p:spPr>
          <a:xfrm>
            <a:off x="3799440" y="2928960"/>
            <a:ext cx="279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 float a=2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Rotatef(a,1,0,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az 17" descr="ObrotZ.jpg"/>
          <p:cNvPicPr/>
          <p:nvPr/>
        </p:nvPicPr>
        <p:blipFill>
          <a:blip r:embed="rId1"/>
          <a:stretch/>
        </p:blipFill>
        <p:spPr>
          <a:xfrm>
            <a:off x="285840" y="1500120"/>
            <a:ext cx="8577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chyl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pochylenia  (ang.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ew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y pozadiagonal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e ma odpowiednika w funkcjach OpenG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a 7"/>
          <p:cNvGrpSpPr/>
          <p:nvPr/>
        </p:nvGrpSpPr>
        <p:grpSpPr>
          <a:xfrm>
            <a:off x="785880" y="3143160"/>
            <a:ext cx="7964280" cy="3284640"/>
            <a:chOff x="785880" y="3143160"/>
            <a:chExt cx="7964280" cy="3284640"/>
          </a:xfrm>
        </p:grpSpPr>
        <p:pic>
          <p:nvPicPr>
            <p:cNvPr id="134" name="Obraz 6" descr="Pochylenie.jpg"/>
            <p:cNvPicPr/>
            <p:nvPr/>
          </p:nvPicPr>
          <p:blipFill>
            <a:blip r:embed="rId1"/>
            <a:stretch/>
          </p:blipFill>
          <p:spPr>
            <a:xfrm>
              <a:off x="3035160" y="3143160"/>
              <a:ext cx="5715000" cy="3284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5" name="Object 6"/>
                <p:cNvSpPr txBox="1"/>
                <p:nvPr/>
              </p:nvSpPr>
              <p:spPr>
                <a:xfrm>
                  <a:off x="785880" y="3143160"/>
                  <a:ext cx="1890720" cy="16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Grupa 8"/>
          <p:cNvGrpSpPr/>
          <p:nvPr/>
        </p:nvGrpSpPr>
        <p:grpSpPr>
          <a:xfrm>
            <a:off x="571680" y="3143160"/>
            <a:ext cx="8153280" cy="3294000"/>
            <a:chOff x="571680" y="3143160"/>
            <a:chExt cx="8153280" cy="3294000"/>
          </a:xfrm>
        </p:grpSpPr>
        <p:pic>
          <p:nvPicPr>
            <p:cNvPr id="137" name="Obraz 9" descr="Pochylenie.jpg"/>
            <p:cNvPicPr/>
            <p:nvPr/>
          </p:nvPicPr>
          <p:blipFill>
            <a:blip r:embed="rId2"/>
            <a:stretch/>
          </p:blipFill>
          <p:spPr>
            <a:xfrm>
              <a:off x="3009960" y="3152520"/>
              <a:ext cx="5715000" cy="3284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8" name="Object 5"/>
                <p:cNvSpPr txBox="1"/>
                <p:nvPr/>
              </p:nvSpPr>
              <p:spPr>
                <a:xfrm>
                  <a:off x="571680" y="3143160"/>
                  <a:ext cx="2103480" cy="16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translacji we współrzędnych jednoro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Macierz"/>
              <p:cNvSpPr txBox="1"/>
              <p:nvPr/>
            </p:nvSpPr>
            <p:spPr>
              <a:xfrm>
                <a:off x="1143000" y="2071800"/>
                <a:ext cx="174960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Macierz z liczbami"/>
              <p:cNvSpPr txBox="1"/>
              <p:nvPr/>
            </p:nvSpPr>
            <p:spPr>
              <a:xfrm>
                <a:off x="1143000" y="2071800"/>
                <a:ext cx="189072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pole tekstowe 9"/>
          <p:cNvSpPr/>
          <p:nvPr/>
        </p:nvSpPr>
        <p:spPr>
          <a:xfrm>
            <a:off x="3571920" y="4286160"/>
            <a:ext cx="5000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T[16]={1,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.5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5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ole tekstowe 10"/>
          <p:cNvSpPr/>
          <p:nvPr/>
        </p:nvSpPr>
        <p:spPr>
          <a:xfrm>
            <a:off x="3582720" y="4286160"/>
            <a:ext cx="34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Translatef(1.5,0.5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Obraz 11" descr="Translacja.bmp"/>
          <p:cNvPicPr/>
          <p:nvPr/>
        </p:nvPicPr>
        <p:blipFill>
          <a:blip r:embed="rId1"/>
          <a:stretch/>
        </p:blipFill>
        <p:spPr>
          <a:xfrm>
            <a:off x="628560" y="1995480"/>
            <a:ext cx="80154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ładanie transform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translacji w kier. X i obrotu wokół osi 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857160" y="2000160"/>
                <a:ext cx="26971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857160" y="2000160"/>
                <a:ext cx="44960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857160" y="2000160"/>
                <a:ext cx="335916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1" name="Obraz 11" descr="RT.bmp"/>
          <p:cNvPicPr/>
          <p:nvPr/>
        </p:nvPicPr>
        <p:blipFill>
          <a:blip r:embed="rId1"/>
          <a:stretch/>
        </p:blipFill>
        <p:spPr>
          <a:xfrm>
            <a:off x="4786200" y="1928880"/>
            <a:ext cx="3143520" cy="180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857160" y="4500720"/>
                <a:ext cx="449424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pole tekstowe 15"/>
          <p:cNvSpPr/>
          <p:nvPr/>
        </p:nvSpPr>
        <p:spPr>
          <a:xfrm>
            <a:off x="527040" y="3929040"/>
            <a:ext cx="75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translacji w kier. X i obrotu wokół osi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857160" y="4500720"/>
                <a:ext cx="27669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5" name="Obraz 17" descr="TR.bmp"/>
          <p:cNvPicPr/>
          <p:nvPr/>
        </p:nvPicPr>
        <p:blipFill>
          <a:blip r:embed="rId2"/>
          <a:stretch/>
        </p:blipFill>
        <p:spPr>
          <a:xfrm>
            <a:off x="4786200" y="4500720"/>
            <a:ext cx="312732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wyznaczonego pun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o 45° w płaszczyźnie XY wokół punktu (2,0,0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o wektor [2,0,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ole tekstowe 8"/>
          <p:cNvSpPr/>
          <p:nvPr/>
        </p:nvSpPr>
        <p:spPr>
          <a:xfrm>
            <a:off x="507960" y="3786120"/>
            <a:ext cx="29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Translatef(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upa 13"/>
          <p:cNvGrpSpPr/>
          <p:nvPr/>
        </p:nvGrpSpPr>
        <p:grpSpPr>
          <a:xfrm>
            <a:off x="428760" y="2428920"/>
            <a:ext cx="8501040" cy="2378520"/>
            <a:chOff x="428760" y="2428920"/>
            <a:chExt cx="8501040" cy="2378520"/>
          </a:xfrm>
        </p:grpSpPr>
        <p:sp>
          <p:nvSpPr>
            <p:cNvPr id="160" name="pole tekstowe 9"/>
            <p:cNvSpPr/>
            <p:nvPr/>
          </p:nvSpPr>
          <p:spPr>
            <a:xfrm>
              <a:off x="513720" y="4286880"/>
              <a:ext cx="299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lRotatef(</a:t>
              </a:r>
              <a:r>
                <a:rPr b="0" lang="pl-PL" sz="28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45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0,0,1)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ymbol zastępczy zawartości 2"/>
            <p:cNvSpPr/>
            <p:nvPr/>
          </p:nvSpPr>
          <p:spPr>
            <a:xfrm>
              <a:off x="428760" y="2428920"/>
              <a:ext cx="8501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) 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rót wokół osi Z o 45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upa 14"/>
          <p:cNvGrpSpPr/>
          <p:nvPr/>
        </p:nvGrpSpPr>
        <p:grpSpPr>
          <a:xfrm>
            <a:off x="428760" y="2928960"/>
            <a:ext cx="8501040" cy="2378520"/>
            <a:chOff x="428760" y="2928960"/>
            <a:chExt cx="8501040" cy="2378520"/>
          </a:xfrm>
        </p:grpSpPr>
        <p:sp>
          <p:nvSpPr>
            <p:cNvPr id="163" name="pole tekstowe 10"/>
            <p:cNvSpPr/>
            <p:nvPr/>
          </p:nvSpPr>
          <p:spPr>
            <a:xfrm>
              <a:off x="508680" y="4786920"/>
              <a:ext cx="30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lTranslatef(</a:t>
              </a:r>
              <a:r>
                <a:rPr b="0" lang="pl-PL" sz="28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-2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0,0)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ymbol zastępczy zawartości 2"/>
            <p:cNvSpPr/>
            <p:nvPr/>
          </p:nvSpPr>
          <p:spPr>
            <a:xfrm>
              <a:off x="428760" y="2928960"/>
              <a:ext cx="8501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)   Przesunięcie o wektor  [-2,0,0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Obraz 15" descr="TRT0.bmp"/>
          <p:cNvPicPr/>
          <p:nvPr/>
        </p:nvPicPr>
        <p:blipFill>
          <a:blip r:embed="rId1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  <p:pic>
        <p:nvPicPr>
          <p:cNvPr id="166" name="Obraz 16" descr="TRT1.bmp"/>
          <p:cNvPicPr/>
          <p:nvPr/>
        </p:nvPicPr>
        <p:blipFill>
          <a:blip r:embed="rId2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  <p:pic>
        <p:nvPicPr>
          <p:cNvPr id="167" name="Obraz 17" descr="TRT2.bmp"/>
          <p:cNvPicPr/>
          <p:nvPr/>
        </p:nvPicPr>
        <p:blipFill>
          <a:blip r:embed="rId3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  <p:pic>
        <p:nvPicPr>
          <p:cNvPr id="168" name="Obraz 18" descr="TRT3.bmp"/>
          <p:cNvPicPr/>
          <p:nvPr/>
        </p:nvPicPr>
        <p:blipFill>
          <a:blip r:embed="rId4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formacj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kreślane we współrzędnych sceny 3D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Transl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obrót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Scal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pochyle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– dowolna macierz 4x4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 muszą być ustalone </a:t>
            </a: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zed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rysowaniem wierzchołka, np.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5.0f, 0.0f, 1.0f, 0.0f); //kąt, kierunek o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…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wyznaczonego pun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o 45° w płaszczyźnie XY wokół punktu (2,0,0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o wektor [2,0,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zawartości 2"/>
          <p:cNvSpPr/>
          <p:nvPr/>
        </p:nvSpPr>
        <p:spPr>
          <a:xfrm>
            <a:off x="428760" y="2428920"/>
            <a:ext cx="8501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osi Z o 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ymbol zastępczy zawartości 2"/>
          <p:cNvSpPr/>
          <p:nvPr/>
        </p:nvSpPr>
        <p:spPr>
          <a:xfrm>
            <a:off x="428760" y="2928960"/>
            <a:ext cx="8501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  Przesunięcie o wektor  [-2,0,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571680" y="3786120"/>
                <a:ext cx="64814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"/>
              <p:cNvSpPr txBox="1"/>
              <p:nvPr/>
            </p:nvSpPr>
            <p:spPr>
              <a:xfrm>
                <a:off x="2286000" y="3786120"/>
                <a:ext cx="47545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2286000" y="3786120"/>
                <a:ext cx="387828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ut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utowanie równoległe na płaszczyznę XY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Ortho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9" name="Symbol zastępczy zawartości 2"/>
          <p:cNvSpPr/>
          <p:nvPr/>
        </p:nvSpPr>
        <p:spPr>
          <a:xfrm>
            <a:off x="428760" y="3929040"/>
            <a:ext cx="8501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utowanie perspektywiczne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Frustum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Macierz z liczbami"/>
              <p:cNvSpPr txBox="1"/>
              <p:nvPr/>
            </p:nvSpPr>
            <p:spPr>
              <a:xfrm>
                <a:off x="1143000" y="2071800"/>
                <a:ext cx="279072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1143000" y="4500720"/>
                <a:ext cx="18921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42884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spółrzędne jednoro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genous coordinat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rowadzone w 1946 przez E. Maxwella (rzutowa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1965 L. Roberts użył ich do zunifikowania zapisu wszystkich transformacji: translacji, obrotów, skalowanie i pochyl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is punktów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ymiarowej przestrzeni za pomocą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 współrzę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cinanie we współrzędnych jednorodnych może odbywać się w sześcianie zamiast w ściętym ostrosłupie (znacznie efektywniejsze numerycz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428480"/>
            <a:ext cx="85010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spółrzędnych kartezjańskich (2D)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i translacja mogą być zapisa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857160" y="2357280"/>
                <a:ext cx="69105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1" name="Grupa 10"/>
          <p:cNvGrpSpPr/>
          <p:nvPr/>
        </p:nvGrpSpPr>
        <p:grpSpPr>
          <a:xfrm>
            <a:off x="352080" y="3643200"/>
            <a:ext cx="6886800" cy="1785960"/>
            <a:chOff x="352080" y="3643200"/>
            <a:chExt cx="6886800" cy="1785960"/>
          </a:xfrm>
        </p:grpSpPr>
        <p:sp>
          <p:nvSpPr>
            <p:cNvPr id="62" name="pole tekstowe 6"/>
            <p:cNvSpPr/>
            <p:nvPr/>
          </p:nvSpPr>
          <p:spPr>
            <a:xfrm>
              <a:off x="352080" y="3643200"/>
              <a:ext cx="53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e współrzędnych jednorodnych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6"/>
                <p:cNvSpPr txBox="1"/>
                <p:nvPr/>
              </p:nvSpPr>
              <p:spPr>
                <a:xfrm>
                  <a:off x="833400" y="4143240"/>
                  <a:ext cx="6405480" cy="12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H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w C+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leży pamiętać, że macierze w OpenGL zapisywane są kolumnami (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[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r kolumny+rozmiar*nr wiersza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]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cza to, że macier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4286160" y="2500200"/>
                <a:ext cx="18464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" name="pole tekstowe 9"/>
          <p:cNvSpPr/>
          <p:nvPr/>
        </p:nvSpPr>
        <p:spPr>
          <a:xfrm>
            <a:off x="810360" y="4214880"/>
            <a:ext cx="49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emy zadeklarować instrukcj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le tekstowe 13"/>
          <p:cNvSpPr/>
          <p:nvPr/>
        </p:nvSpPr>
        <p:spPr>
          <a:xfrm>
            <a:off x="1232280" y="4726080"/>
            <a:ext cx="426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loat I[4][4]={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e tekstowe 14"/>
          <p:cNvSpPr/>
          <p:nvPr/>
        </p:nvSpPr>
        <p:spPr>
          <a:xfrm>
            <a:off x="1200240" y="4711680"/>
            <a:ext cx="437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loat I[16]=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ole tekstowe 15"/>
          <p:cNvSpPr/>
          <p:nvPr/>
        </p:nvSpPr>
        <p:spPr>
          <a:xfrm>
            <a:off x="6654960" y="5429160"/>
            <a:ext cx="19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OpenG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1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w C+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chcemy ułatwić sobie życie, możemy zdefiniować funkcję wykonującą transpozycję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000080" y="2428920"/>
                <a:ext cx="40719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w C+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1428480"/>
            <a:ext cx="8501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*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pozycja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loat* M,int rozmiar=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(int kolumna=0;kolumna&lt;rozmiar;++kolum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(int wiersz=kolumna+1;wiersz&lt;rozmiar;++wiers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loat tmp=M[kolumna+rozmiar*wiersz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[kolumna+rozmiar*wiersz]=M[wiersz+rozmiar*kolumna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[wiersz+rozmiar*kolumna]=tm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a glMult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8760" y="1428480"/>
            <a:ext cx="85010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a OpenGL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ykonuje mnoże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eżącej macierzy M (np. model-widok) przez macierz 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aną w argumencie tj.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 → M·H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multiplicatio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upa 8"/>
          <p:cNvGrpSpPr/>
          <p:nvPr/>
        </p:nvGrpSpPr>
        <p:grpSpPr>
          <a:xfrm>
            <a:off x="539280" y="2928960"/>
            <a:ext cx="8149680" cy="2224080"/>
            <a:chOff x="539280" y="2928960"/>
            <a:chExt cx="8149680" cy="2224080"/>
          </a:xfrm>
        </p:grpSpPr>
        <mc:AlternateContent>
          <mc:Choice xmlns:a14="http://schemas.microsoft.com/office/drawing/2010/main" Requires="a14">
            <p:sp>
              <p:nvSpPr>
                <p:cNvPr id="82" name="Object 6"/>
                <p:cNvSpPr txBox="1"/>
                <p:nvPr/>
              </p:nvSpPr>
              <p:spPr>
                <a:xfrm>
                  <a:off x="571320" y="3500280"/>
                  <a:ext cx="1679400" cy="16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" name="pole tekstowe 6"/>
            <p:cNvSpPr/>
            <p:nvPr/>
          </p:nvSpPr>
          <p:spPr>
            <a:xfrm>
              <a:off x="539280" y="2928960"/>
              <a:ext cx="81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zykład użycia – mnożenie przez macierz jednostkow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ole tekstowe 7"/>
          <p:cNvSpPr/>
          <p:nvPr/>
        </p:nvSpPr>
        <p:spPr>
          <a:xfrm>
            <a:off x="2943000" y="35002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I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10"/>
          <p:cNvSpPr/>
          <p:nvPr/>
        </p:nvSpPr>
        <p:spPr>
          <a:xfrm>
            <a:off x="221400" y="5929200"/>
            <a:ext cx="258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 szablonie zmiany wprowadzać</a:t>
            </a:r>
            <a:br>
              <a:rPr sz="1400"/>
            </a:br>
            <a:r>
              <a:rPr b="0" lang="pl-PL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 funkcji TForm1::RysujScene </a:t>
            </a:r>
            <a:br>
              <a:rPr sz="1400"/>
            </a:br>
            <a:r>
              <a:rPr b="0" lang="pl-PL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zed rysowaniem fig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a glMult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760" y="1428840"/>
            <a:ext cx="85010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kt mnożenia przez macierz I: żadnych zm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8" descr="Szablon.jpg"/>
          <p:cNvPicPr/>
          <p:nvPr/>
        </p:nvPicPr>
        <p:blipFill>
          <a:blip r:embed="rId1"/>
          <a:stretch/>
        </p:blipFill>
        <p:spPr>
          <a:xfrm>
            <a:off x="500040" y="2214720"/>
            <a:ext cx="728676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38:26Z</dcterms:created>
  <dc:creator>Jacek Matulewski</dc:creator>
  <dc:description/>
  <dc:language>en-US</dc:language>
  <cp:lastModifiedBy>Jacek Matulewski</cp:lastModifiedBy>
  <dcterms:modified xsi:type="dcterms:W3CDTF">2009-05-21T14:34:37Z</dcterms:modified>
  <cp:revision>314</cp:revision>
  <dc:subject/>
  <dc:title>Grafika 3D</dc:title>
</cp:coreProperties>
</file>